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3A9E-511B-498A-A99E-6B2DBE7C2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55E2-3CFE-4E5A-BC5E-10245BD85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2A0A-7C77-499A-A636-0EEE135FC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66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47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66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47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4D4E-1ABE-43F7-827D-388D3AD14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55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8A99-81BA-4CFD-9CD6-4D599E17F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66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47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566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447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31E-2EB0-4001-BCE9-838E849460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33C-2140-4365-8541-DE8C662137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D9B-BA5D-46BF-A620-605F0417C0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1E0-6687-4AC9-B438-2AE7A95F91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C49-16F8-423D-B5F3-052E7009E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11C3-6A8A-4BC0-AC53-9BB60C5256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55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DCE-24F5-4E07-8C10-8004F47F0B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502-40D8-4DD8-8A41-03F4B567AF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788-B49C-4004-B3F6-7BC6D9CDF8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097-A77F-4059-8822-C46222B557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062-3107-4A3A-A7BA-3FC74D16B4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9BA-DF50-4C05-85BD-8665C53475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66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47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566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447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DBC-3471-4BC4-B16F-8004199E3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68D1-712A-4581-AA03-56F1E1C3A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3B7D-2E84-4D1E-BC40-391674FDD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55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50F3-0FE8-41E5-9AE0-9B449C08F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B01F-4D1B-45F3-833B-79F295CCE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7B65-D1BB-4432-BE42-2FFF40C07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667E-5E83-42EF-B03D-F771BD8B9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1" marL="639000" indent="-245520">
              <a:spcBef>
                <a:spcPts val="799"/>
              </a:spcBef>
              <a:buClr>
                <a:srgbClr val="0000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2" marL="982800" indent="-196560"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3" marL="1375920" indent="-196560">
              <a:spcBef>
                <a:spcPts val="799"/>
              </a:spcBef>
              <a:buClr>
                <a:srgbClr val="0000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4" marL="1769040" indent="-196560">
              <a:spcBef>
                <a:spcPts val="799"/>
              </a:spcBef>
              <a:buClr>
                <a:srgbClr val="000066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>
                <a:solidFill>
                  <a:srgbClr val="3135b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293-5F2D-453D-A8E7-1773D2969D97}" type="slidenum">
              <a:rPr b="1" lang="en-GB" sz="1800" spc="-1" strike="noStrike">
                <a:solidFill>
                  <a:srgbClr val="3135bd"/>
                </a:solidFill>
                <a:latin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1" descr="\\Server\marketing\Polar Website Shadow\images\strip.gif"/>
          <p:cNvPicPr/>
          <p:nvPr/>
        </p:nvPicPr>
        <p:blipFill>
          <a:blip r:embed="rId2"/>
          <a:stretch/>
        </p:blipFill>
        <p:spPr>
          <a:xfrm>
            <a:off x="53352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32"/>
          <p:cNvSpPr/>
          <p:nvPr/>
        </p:nvSpPr>
        <p:spPr>
          <a:xfrm>
            <a:off x="678168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33" descr="C:\Manuals\polarinstrument.jpg"/>
          <p:cNvPicPr/>
          <p:nvPr/>
        </p:nvPicPr>
        <p:blipFill>
          <a:blip r:embed="rId3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0" descr="C:\Polar\Si9000\Polar_Logo_CDR.jpg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50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31" descr="\\Server\marketing\Polar Website Shadow\images\strip.gif"/>
          <p:cNvPicPr/>
          <p:nvPr/>
        </p:nvPicPr>
        <p:blipFill>
          <a:blip r:embed="rId3"/>
          <a:stretch/>
        </p:blipFill>
        <p:spPr>
          <a:xfrm>
            <a:off x="1828800" y="0"/>
            <a:ext cx="2286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4" descr="C:\Polar\Si9000\Impedance Calc.jpg"/>
          <p:cNvPicPr/>
          <p:nvPr/>
        </p:nvPicPr>
        <p:blipFill>
          <a:blip r:embed="rId4"/>
          <a:stretch/>
        </p:blipFill>
        <p:spPr>
          <a:xfrm>
            <a:off x="76320" y="990720"/>
            <a:ext cx="1676160" cy="103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5" descr="C:\Manuals\polarinstrument.jpg"/>
          <p:cNvPicPr/>
          <p:nvPr/>
        </p:nvPicPr>
        <p:blipFill>
          <a:blip r:embed="rId5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9" descr=""/>
          <p:cNvPicPr/>
          <p:nvPr/>
        </p:nvPicPr>
        <p:blipFill>
          <a:blip r:embed="rId6"/>
          <a:stretch/>
        </p:blipFill>
        <p:spPr>
          <a:xfrm>
            <a:off x="76320" y="4311720"/>
            <a:ext cx="16603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2" descr="C:\Polar\Si9000\P3 S-11 magnitude.jpg"/>
          <p:cNvPicPr/>
          <p:nvPr/>
        </p:nvPicPr>
        <p:blipFill>
          <a:blip r:embed="rId7"/>
          <a:stretch/>
        </p:blipFill>
        <p:spPr>
          <a:xfrm>
            <a:off x="76320" y="2101680"/>
            <a:ext cx="1690560" cy="96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45" descr="C:\Polar\Si9000\P3-1 Coated Microstrip 1B.jpg"/>
          <p:cNvPicPr/>
          <p:nvPr/>
        </p:nvPicPr>
        <p:blipFill>
          <a:blip r:embed="rId8"/>
          <a:stretch/>
        </p:blipFill>
        <p:spPr>
          <a:xfrm>
            <a:off x="21081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6" descr="C:\Polar\Si9000\P3-2 Edge-Coupled Offset Stripline 1B 1A 1R.jpg"/>
          <p:cNvPicPr/>
          <p:nvPr/>
        </p:nvPicPr>
        <p:blipFill>
          <a:blip r:embed="rId9"/>
          <a:stretch/>
        </p:blipFill>
        <p:spPr>
          <a:xfrm>
            <a:off x="30988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7" descr="C:\Polar\Si9000\P3-3 Surface Coplanar Strips with Ground 2B.jpg"/>
          <p:cNvPicPr/>
          <p:nvPr/>
        </p:nvPicPr>
        <p:blipFill>
          <a:blip r:embed="rId10"/>
          <a:stretch/>
        </p:blipFill>
        <p:spPr>
          <a:xfrm>
            <a:off x="408924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8" descr="C:\Polar\Si9000\P3-4 Coated Coplanar Strips 2B.jpg"/>
          <p:cNvPicPr/>
          <p:nvPr/>
        </p:nvPicPr>
        <p:blipFill>
          <a:blip r:embed="rId11"/>
          <a:stretch/>
        </p:blipFill>
        <p:spPr>
          <a:xfrm>
            <a:off x="50799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9" descr="C:\Polar\Si9000\P3-5 Diff Coated Coplanar Waveguide 2B.jpg"/>
          <p:cNvPicPr/>
          <p:nvPr/>
        </p:nvPicPr>
        <p:blipFill>
          <a:blip r:embed="rId12"/>
          <a:stretch/>
        </p:blipFill>
        <p:spPr>
          <a:xfrm>
            <a:off x="60706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50" descr="C:\Polar\Si9000\p6-3 Dual Coated Microstrip 1B.jpg"/>
          <p:cNvPicPr/>
          <p:nvPr/>
        </p:nvPicPr>
        <p:blipFill>
          <a:blip r:embed="rId13"/>
          <a:stretch/>
        </p:blipFill>
        <p:spPr>
          <a:xfrm>
            <a:off x="706104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51" descr="C:\Polar\Si9000\P6-5 Edge-Coupled Offset Microstrip 2B 1A 1R.jpg"/>
          <p:cNvPicPr/>
          <p:nvPr/>
        </p:nvPicPr>
        <p:blipFill>
          <a:blip r:embed="rId14"/>
          <a:stretch/>
        </p:blipFill>
        <p:spPr>
          <a:xfrm>
            <a:off x="805176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52" descr="C:\Polar\Speedstack training\Presentations\CouponGen.jpg"/>
          <p:cNvPicPr/>
          <p:nvPr/>
        </p:nvPicPr>
        <p:blipFill>
          <a:blip r:embed="rId15"/>
          <a:stretch/>
        </p:blipFill>
        <p:spPr>
          <a:xfrm>
            <a:off x="76320" y="5562720"/>
            <a:ext cx="1676160" cy="107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C:\Polar\CITS\CITS900 75 Ohm time to calibrated .jpg"/>
          <p:cNvPicPr/>
          <p:nvPr/>
        </p:nvPicPr>
        <p:blipFill>
          <a:blip r:embed="rId16"/>
          <a:stretch/>
        </p:blipFill>
        <p:spPr>
          <a:xfrm>
            <a:off x="76320" y="3200400"/>
            <a:ext cx="167616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1" marL="646200" indent="-248400">
              <a:spcBef>
                <a:spcPts val="799"/>
              </a:spcBef>
              <a:buClr>
                <a:srgbClr val="0000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2" marL="994320" indent="-198720"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3" marL="1392120" indent="-198720">
              <a:spcBef>
                <a:spcPts val="799"/>
              </a:spcBef>
              <a:buClr>
                <a:srgbClr val="0000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4" marL="1789920" indent="-198720">
              <a:spcBef>
                <a:spcPts val="799"/>
              </a:spcBef>
              <a:buClr>
                <a:srgbClr val="000066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31" descr="\\Server\marketing\Polar Website Shadow\images\strip.gif"/>
          <p:cNvPicPr/>
          <p:nvPr/>
        </p:nvPicPr>
        <p:blipFill>
          <a:blip r:embed="rId2"/>
          <a:stretch/>
        </p:blipFill>
        <p:spPr>
          <a:xfrm>
            <a:off x="53352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2"/>
          <p:cNvSpPr/>
          <p:nvPr/>
        </p:nvSpPr>
        <p:spPr>
          <a:xfrm>
            <a:off x="678168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33" descr="C:\Manuals\polarinstrument.jpg"/>
          <p:cNvPicPr/>
          <p:nvPr/>
        </p:nvPicPr>
        <p:blipFill>
          <a:blip r:embed="rId3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1" marL="646200" indent="-248400">
              <a:spcBef>
                <a:spcPts val="799"/>
              </a:spcBef>
              <a:buClr>
                <a:srgbClr val="0000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2" marL="994320" indent="-198720"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3" marL="1392120" indent="-198720">
              <a:spcBef>
                <a:spcPts val="799"/>
              </a:spcBef>
              <a:buClr>
                <a:srgbClr val="0000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4" marL="1789920" indent="-198720">
              <a:spcBef>
                <a:spcPts val="799"/>
              </a:spcBef>
              <a:buClr>
                <a:srgbClr val="000066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612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>
                <a:solidFill>
                  <a:srgbClr val="3135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0228-C89C-486F-A349-86E19544BA16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ken.taylor@polarinstruments.com" TargetMode="External"/><Relationship Id="rId2" Type="http://schemas.openxmlformats.org/officeDocument/2006/relationships/hyperlink" Target="mailto:ken.taylor@polarinstruments.com?CC=gwen.merchant@polarinstruments.com&amp;SUBJECT=%20Please%20call%20me&amp;BODY=Dear%20Ken,%20%20Please%20call%20me%20to%20discuss%20my%20requirements.%20%20My%20phone%20number%20is..." TargetMode="External"/><Relationship Id="rId3" Type="http://schemas.openxmlformats.org/officeDocument/2006/relationships/hyperlink" Target="mailto:terence.chew@polarinstruments.com" TargetMode="External"/><Relationship Id="rId4" Type="http://schemas.openxmlformats.org/officeDocument/2006/relationships/hyperlink" Target="mailto:terumitsu.tsuji@polarinstruments.com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050560" y="2666880"/>
            <a:ext cx="698508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3068f"/>
                </a:solidFill>
                <a:latin typeface="Arial Unicode MS"/>
                <a:ea typeface="Arial Unicode MS"/>
              </a:rPr>
              <a:t>New features and options for Polar Si8000m / Si9000e / Speedstack</a:t>
            </a:r>
            <a:br>
              <a:rPr sz="3200"/>
            </a:br>
            <a:r>
              <a:rPr b="1" lang="en-US" sz="3200" spc="-1" strike="noStrike">
                <a:solidFill>
                  <a:srgbClr val="03068f"/>
                </a:solidFill>
                <a:latin typeface="Arial Unicode MS"/>
                <a:ea typeface="Arial Unicode MS"/>
              </a:rPr>
              <a:t>for 2011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826920" y="26028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Drill fill styles – sample stack up showing fill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87320" y="4525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216160" y="88092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73200" y="324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16160" y="19861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S:\Engineering\Rich\!!!!!!!!!!Screenshots!!!\02_Stack_3D.jpg"/>
          <p:cNvPicPr/>
          <p:nvPr/>
        </p:nvPicPr>
        <p:blipFill>
          <a:blip r:embed="rId1"/>
          <a:stretch/>
        </p:blipFill>
        <p:spPr>
          <a:xfrm>
            <a:off x="1332000" y="1773360"/>
            <a:ext cx="3492360" cy="43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1" descr="S:\Engineering\Rich\!!!!!!!!!!Screenshots!!!\01_Stack_2D.jpg"/>
          <p:cNvPicPr/>
          <p:nvPr/>
        </p:nvPicPr>
        <p:blipFill>
          <a:blip r:embed="rId2"/>
          <a:stretch/>
        </p:blipFill>
        <p:spPr>
          <a:xfrm>
            <a:off x="4962600" y="1925640"/>
            <a:ext cx="3497040" cy="438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Slide Number Placeholder 9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7528-DAB3-4A1E-9100-55B6816B4A84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10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826920" y="26028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Drill fill styles – printed stack up showing fill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787320" y="4525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216160" y="88092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73200" y="324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0" descr="S:\Engineering\Rich\!!!!!!!!!!Screenshots!!!\06_Printing1.jpg"/>
          <p:cNvPicPr/>
          <p:nvPr/>
        </p:nvPicPr>
        <p:blipFill>
          <a:blip r:embed="rId1"/>
          <a:stretch/>
        </p:blipFill>
        <p:spPr>
          <a:xfrm>
            <a:off x="1332000" y="1773360"/>
            <a:ext cx="5503680" cy="37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Text Box 11"/>
          <p:cNvSpPr/>
          <p:nvPr/>
        </p:nvSpPr>
        <p:spPr>
          <a:xfrm>
            <a:off x="6954840" y="3057480"/>
            <a:ext cx="208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22228b"/>
                </a:solidFill>
                <a:latin typeface="Arial Unicode MS"/>
              </a:rPr>
              <a:t>Also includes an improved laser via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9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4B3-7B10-4562-AF3D-B308E4859963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10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826920" y="26028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Simplified colours – shade rendering now auto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87320" y="4525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73200" y="324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216160" y="19861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8" descr="S:\Engineering\Rich\!!!!!!!!!!Screenshots!!!\03_SingleChoice_Colors.jpg"/>
          <p:cNvPicPr/>
          <p:nvPr/>
        </p:nvPicPr>
        <p:blipFill>
          <a:blip r:embed="rId1"/>
          <a:stretch/>
        </p:blipFill>
        <p:spPr>
          <a:xfrm>
            <a:off x="1332000" y="1773360"/>
            <a:ext cx="6732360" cy="397800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8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3D7-6A74-46AA-AB3F-6EAC8E0DA0BD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826920" y="26028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216160" y="88092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73200" y="324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216160" y="19861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332000" y="1773360"/>
            <a:ext cx="712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Autostack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Improvements to the algorithms which target overall stack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Numerous other minor usability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8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5E72-503F-411B-94F7-97C85BB3F7FC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209680" y="1523520"/>
            <a:ext cx="556272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For more information: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Contact Polar now:</a:t>
            </a:r>
            <a:r>
              <a:rPr b="1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           Phone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USA / Canada / Mexico</a:t>
            </a:r>
            <a:br>
              <a:rPr sz="1400"/>
            </a:b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  <a:hlinkClick r:id="rId1"/>
              </a:rPr>
              <a:t>Ken Taylor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( 503) 356 5270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  <a:hlinkClick r:id="rId2"/>
              </a:rPr>
              <a:t>_x000b_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Asia / Pacific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  <a:hlinkClick r:id="rId3"/>
              </a:rPr>
              <a:t>Terence Chew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+65 6873 7470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Japan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  <a:hlinkClick r:id="rId4"/>
              </a:rPr>
              <a:t>Terumitsu Tsuji 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+81 45 339 0155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UK / Europe</a:t>
            </a:r>
            <a:br>
              <a:rPr sz="1400"/>
            </a:b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Neil Chamberlain 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+44 23 9226 9113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Germany / Austria / Switzerland </a:t>
            </a:r>
            <a:br>
              <a:rPr sz="1400"/>
            </a:b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Hermann Reischer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	</a:t>
            </a: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+43 7666 20041-0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8"/>
                </a:solidFill>
                <a:latin typeface="Arial Unicode MS"/>
                <a:ea typeface="Arial Unicode MS"/>
              </a:rPr>
              <a:t>www.polarinstruments.com </a:t>
            </a:r>
            <a:endParaRPr b="0" lang="en-US" sz="1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826920" y="260280"/>
            <a:ext cx="8204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i8000m / Si9000e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New for the Si9000 – Via Pad / Anti-Pad calculation – based on round coax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127640" cy="451152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4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237-1789-475A-9081-6AA81220F344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826920" y="26028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i8000m / Si9000e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Crosshatch (XFE) enhancements for Si Flexible option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– solid / hatch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121520" cy="4508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4334040" y="2044800"/>
            <a:ext cx="519120" cy="33336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1766-990C-4EBA-A5B4-E6317A672F07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121520" cy="45082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826920" y="26028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i8000m / Si9000e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Link to enhanced Track Resistance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08800" y="2070000"/>
            <a:ext cx="255600" cy="2858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6084720" y="1706400"/>
            <a:ext cx="2951280" cy="460224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6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0D0A-A1C8-4817-86A9-59B8796B0124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7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27"/>
          <p:cNvSpPr/>
          <p:nvPr/>
        </p:nvSpPr>
        <p:spPr>
          <a:xfrm>
            <a:off x="826920" y="260280"/>
            <a:ext cx="820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i8000m / Si9000e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Si9000 – Surface roughness calculation now included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in RLGC / S-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28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33" descr=""/>
          <p:cNvPicPr/>
          <p:nvPr/>
        </p:nvPicPr>
        <p:blipFill>
          <a:blip r:embed="rId1"/>
          <a:stretch/>
        </p:blipFill>
        <p:spPr>
          <a:xfrm>
            <a:off x="3005280" y="1773360"/>
            <a:ext cx="6030720" cy="2259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34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2109960" cy="76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38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2102040" cy="752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39" descr=""/>
          <p:cNvPicPr/>
          <p:nvPr/>
        </p:nvPicPr>
        <p:blipFill>
          <a:blip r:embed="rId4"/>
          <a:stretch/>
        </p:blipFill>
        <p:spPr>
          <a:xfrm>
            <a:off x="2990880" y="4040280"/>
            <a:ext cx="6045120" cy="2268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041"/>
          <p:cNvSpPr/>
          <p:nvPr/>
        </p:nvSpPr>
        <p:spPr>
          <a:xfrm>
            <a:off x="1793880" y="2914560"/>
            <a:ext cx="1028520" cy="523800"/>
          </a:xfrm>
          <a:prstGeom prst="rightArrow">
            <a:avLst>
              <a:gd name="adj1" fmla="val 50000"/>
              <a:gd name="adj2" fmla="val 5318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42"/>
          <p:cNvSpPr/>
          <p:nvPr/>
        </p:nvSpPr>
        <p:spPr>
          <a:xfrm>
            <a:off x="1793880" y="5229360"/>
            <a:ext cx="1028520" cy="523800"/>
          </a:xfrm>
          <a:prstGeom prst="rightArrow">
            <a:avLst>
              <a:gd name="adj1" fmla="val 50000"/>
              <a:gd name="adj2" fmla="val 5318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9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CBE8-8A32-450C-8301-DDF5E5FBB27C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10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26920" y="26028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i8000m / Si9000e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73360"/>
            <a:ext cx="770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Other enhanc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Sensitivity analysis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Improved data interchange between Si8 and Si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 Unicode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A series of general improvements to the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F08-8311-487B-B6A2-F8B42976FD62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826920" y="26028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Impedance structure notes fields – user definabl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87320" y="4525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616360" cy="44179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6072120" y="2441520"/>
            <a:ext cx="193680" cy="2174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216160" y="88092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5195880" y="2781360"/>
            <a:ext cx="3263760" cy="352728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8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EE16-D14E-4BB5-98AE-593465271ACE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69412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826920" y="26028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Impedance structure notes fields – extended pri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87320" y="4525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572000" y="4292640"/>
            <a:ext cx="254160" cy="7430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216160" y="88092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73200" y="324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216160" y="19861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4402080" y="1844640"/>
            <a:ext cx="3995640" cy="244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1"/>
          <p:cNvSpPr/>
          <p:nvPr/>
        </p:nvSpPr>
        <p:spPr>
          <a:xfrm>
            <a:off x="4516560" y="3341520"/>
            <a:ext cx="500040" cy="1810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11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74D3-5CAD-4D13-ADB2-AEF65107B813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12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826920" y="26028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 Unicode MS"/>
              </a:rPr>
              <a:t>Speedstack v11.01 Polarcar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  <a:ea typeface="Arial"/>
              </a:rPr>
              <a:t>Drill fill styles – nominate how a via hole is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4435560" y="3281400"/>
            <a:ext cx="2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87320" y="4525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216160" y="88092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673200" y="324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216160" y="198612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4" descr="S:\Engineering\Rich\!!!!!!!!!!Screenshots!!!\04_Add_Drill_Dialog.jpg"/>
          <p:cNvPicPr/>
          <p:nvPr/>
        </p:nvPicPr>
        <p:blipFill>
          <a:blip r:embed="rId1"/>
          <a:stretch/>
        </p:blipFill>
        <p:spPr>
          <a:xfrm>
            <a:off x="1332000" y="1773360"/>
            <a:ext cx="3757680" cy="2568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S:\Engineering\Rich\!!!!!!!!!!Screenshots!!!\05_LaserDrills.jpg"/>
          <p:cNvPicPr/>
          <p:nvPr/>
        </p:nvPicPr>
        <p:blipFill>
          <a:blip r:embed="rId2"/>
          <a:stretch/>
        </p:blipFill>
        <p:spPr>
          <a:xfrm>
            <a:off x="4067280" y="4181400"/>
            <a:ext cx="43923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Slide Number Placeholder 9"/>
          <p:cNvSpPr/>
          <p:nvPr/>
        </p:nvSpPr>
        <p:spPr>
          <a:xfrm>
            <a:off x="6480" y="642636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9544-AE44-4725-940C-0997887BC738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10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pyright Polar Instrument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8:30:25Z</dcterms:created>
  <dc:creator>Ralph Bryce</dc:creator>
  <dc:description/>
  <dc:language>en-US</dc:language>
  <cp:lastModifiedBy>Ralph Bryce</cp:lastModifiedBy>
  <dcterms:modified xsi:type="dcterms:W3CDTF">2010-12-09T08:22:41Z</dcterms:modified>
  <cp:revision>15</cp:revision>
  <dc:subject/>
  <dc:title>Slide 1</dc:title>
</cp:coreProperties>
</file>