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9E9B-F048-494C-9288-0B2EA4387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7598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AA8E-68BC-4F68-B407-F6116B056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632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7598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36320" y="37598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377E-BE8B-4541-B735-2D1B73642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8320" y="13716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2240" y="13716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7598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8320" y="37598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2240" y="37598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C3EA-95EF-422F-BAFA-51BCC63AA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6320" y="13716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3045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6320" y="13716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7598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034A-13CD-47BC-A865-834F1FBC5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3632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6320" y="37598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632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7598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7598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632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7598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36320" y="37598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68320" y="13716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22240" y="13716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7598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68320" y="37598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22240" y="37598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D1AF-872A-40EB-8E36-F6A55E768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6320" y="13716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8C25-BCB9-4ED9-8154-D38978F82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0220-1D98-4911-9660-6F2799C37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3045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26E2-ACA0-454A-9F02-43ACDE9E5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6320" y="13716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7598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80B9-1F2E-47B0-BEA1-954F34D03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3632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36320" y="37598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11F7-0884-4AD4-831B-46EB93F0B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6320" y="13716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7598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CFDA-D15E-4BBD-8983-81DFF089E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135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FB8E-4282-4045-84E5-DBB265E2C0BA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31" descr="\\Server\marketing\Polar Website Shadow\images\strip.gif"/>
          <p:cNvPicPr/>
          <p:nvPr/>
        </p:nvPicPr>
        <p:blipFill>
          <a:blip r:embed="rId2"/>
          <a:stretch/>
        </p:blipFill>
        <p:spPr>
          <a:xfrm>
            <a:off x="53352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032"/>
          <p:cNvSpPr/>
          <p:nvPr/>
        </p:nvSpPr>
        <p:spPr>
          <a:xfrm>
            <a:off x="6781680" y="19810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33" descr="C:\Manuals\polarinstrument.jpg"/>
          <p:cNvPicPr/>
          <p:nvPr/>
        </p:nvPicPr>
        <p:blipFill>
          <a:blip r:embed="rId3"/>
          <a:stretch/>
        </p:blipFill>
        <p:spPr>
          <a:xfrm>
            <a:off x="6858000" y="6523200"/>
            <a:ext cx="2133720" cy="25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0" descr="C:\Polar\Si9000\Polar_Logo_CDR.jpg"/>
          <p:cNvPicPr/>
          <p:nvPr/>
        </p:nvPicPr>
        <p:blipFill>
          <a:blip r:embed="rId2"/>
          <a:stretch/>
        </p:blipFill>
        <p:spPr>
          <a:xfrm>
            <a:off x="152280" y="152280"/>
            <a:ext cx="1447920" cy="509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31" descr="\\Server\marketing\Polar Website Shadow\images\strip.gif"/>
          <p:cNvPicPr/>
          <p:nvPr/>
        </p:nvPicPr>
        <p:blipFill>
          <a:blip r:embed="rId3"/>
          <a:stretch/>
        </p:blipFill>
        <p:spPr>
          <a:xfrm>
            <a:off x="1828800" y="0"/>
            <a:ext cx="2286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4" descr="C:\Polar\Si9000\Impedance Calc.jpg"/>
          <p:cNvPicPr/>
          <p:nvPr/>
        </p:nvPicPr>
        <p:blipFill>
          <a:blip r:embed="rId4"/>
          <a:stretch/>
        </p:blipFill>
        <p:spPr>
          <a:xfrm>
            <a:off x="76320" y="990720"/>
            <a:ext cx="1676160" cy="103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5" descr="C:\Manuals\polarinstrument.jpg"/>
          <p:cNvPicPr/>
          <p:nvPr/>
        </p:nvPicPr>
        <p:blipFill>
          <a:blip r:embed="rId5"/>
          <a:stretch/>
        </p:blipFill>
        <p:spPr>
          <a:xfrm>
            <a:off x="6858000" y="6523200"/>
            <a:ext cx="2133720" cy="258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9" descr=""/>
          <p:cNvPicPr/>
          <p:nvPr/>
        </p:nvPicPr>
        <p:blipFill>
          <a:blip r:embed="rId6"/>
          <a:stretch/>
        </p:blipFill>
        <p:spPr>
          <a:xfrm>
            <a:off x="76320" y="4311720"/>
            <a:ext cx="166032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2" descr="C:\Polar\Si9000\P3 S-11 magnitude.jpg"/>
          <p:cNvPicPr/>
          <p:nvPr/>
        </p:nvPicPr>
        <p:blipFill>
          <a:blip r:embed="rId7"/>
          <a:stretch/>
        </p:blipFill>
        <p:spPr>
          <a:xfrm>
            <a:off x="76320" y="2101680"/>
            <a:ext cx="1690560" cy="96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45" descr="C:\Polar\Si9000\P3-1 Coated Microstrip 1B.jpg"/>
          <p:cNvPicPr/>
          <p:nvPr/>
        </p:nvPicPr>
        <p:blipFill>
          <a:blip r:embed="rId8"/>
          <a:stretch/>
        </p:blipFill>
        <p:spPr>
          <a:xfrm>
            <a:off x="210816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6" descr="C:\Polar\Si9000\P3-2 Edge-Coupled Offset Stripline 1B 1A 1R.jpg"/>
          <p:cNvPicPr/>
          <p:nvPr/>
        </p:nvPicPr>
        <p:blipFill>
          <a:blip r:embed="rId9"/>
          <a:stretch/>
        </p:blipFill>
        <p:spPr>
          <a:xfrm>
            <a:off x="3098880" y="228600"/>
            <a:ext cx="939600" cy="57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7" descr="C:\Polar\Si9000\P3-3 Surface Coplanar Strips with Ground 2B.jpg"/>
          <p:cNvPicPr/>
          <p:nvPr/>
        </p:nvPicPr>
        <p:blipFill>
          <a:blip r:embed="rId10"/>
          <a:stretch/>
        </p:blipFill>
        <p:spPr>
          <a:xfrm>
            <a:off x="408924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8" descr="C:\Polar\Si9000\P3-4 Coated Coplanar Strips 2B.jpg"/>
          <p:cNvPicPr/>
          <p:nvPr/>
        </p:nvPicPr>
        <p:blipFill>
          <a:blip r:embed="rId11"/>
          <a:stretch/>
        </p:blipFill>
        <p:spPr>
          <a:xfrm>
            <a:off x="507996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49" descr="C:\Polar\Si9000\P3-5 Diff Coated Coplanar Waveguide 2B.jpg"/>
          <p:cNvPicPr/>
          <p:nvPr/>
        </p:nvPicPr>
        <p:blipFill>
          <a:blip r:embed="rId12"/>
          <a:stretch/>
        </p:blipFill>
        <p:spPr>
          <a:xfrm>
            <a:off x="6070680" y="228600"/>
            <a:ext cx="939600" cy="574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50" descr="C:\Polar\Si9000\p6-3 Dual Coated Microstrip 1B.jpg"/>
          <p:cNvPicPr/>
          <p:nvPr/>
        </p:nvPicPr>
        <p:blipFill>
          <a:blip r:embed="rId13"/>
          <a:stretch/>
        </p:blipFill>
        <p:spPr>
          <a:xfrm>
            <a:off x="7061040" y="233280"/>
            <a:ext cx="939960" cy="5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51" descr="C:\Polar\Si9000\P6-5 Edge-Coupled Offset Microstrip 2B 1A 1R.jpg"/>
          <p:cNvPicPr/>
          <p:nvPr/>
        </p:nvPicPr>
        <p:blipFill>
          <a:blip r:embed="rId14"/>
          <a:stretch/>
        </p:blipFill>
        <p:spPr>
          <a:xfrm>
            <a:off x="8051760" y="233280"/>
            <a:ext cx="939960" cy="57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52" descr="C:\Polar\Speedstack training\Presentations\CouponGen.jpg"/>
          <p:cNvPicPr/>
          <p:nvPr/>
        </p:nvPicPr>
        <p:blipFill>
          <a:blip r:embed="rId15"/>
          <a:stretch/>
        </p:blipFill>
        <p:spPr>
          <a:xfrm>
            <a:off x="76320" y="5562720"/>
            <a:ext cx="1676160" cy="1076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C:\Polar\CITS\CITS900 75 Ohm time to calibrated .jpg"/>
          <p:cNvPicPr/>
          <p:nvPr/>
        </p:nvPicPr>
        <p:blipFill>
          <a:blip r:embed="rId16"/>
          <a:stretch/>
        </p:blipFill>
        <p:spPr>
          <a:xfrm>
            <a:off x="76320" y="3200400"/>
            <a:ext cx="167616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en.taylor@polarinstruments.com" TargetMode="External"/><Relationship Id="rId2" Type="http://schemas.openxmlformats.org/officeDocument/2006/relationships/hyperlink" Target="mailto:ken.taylor@polarinstruments.com?CC=gwen.merchant@polarinstruments.com&amp;SUBJECT=%20Please%20call%20me&amp;BODY=Dear%20Ken,%20%20Please%20call%20me%20to%20discuss%20my%20requirements.%20%20My%20phone%20number%20is...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14360" y="1752480"/>
            <a:ext cx="6777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Working with 3D graphs in the Si8000m and Si9000e PCB Transmission Line Field Solv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30560" y="4038480"/>
            <a:ext cx="628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Using the Sensitivity Analysis feature of the Si8000m and Si9000e Field Solvers to chart multiple parameter variations in controlled impedance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066760" y="64771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Application Note AP81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F21-5098-4DCC-9A36-0967A1140122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ing 3D graph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hart now displays the change in Z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gainst the changes in both H1 and H2. The chart can be rotated through 36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 (double click the chart to stop and restart its rotation) – use the scroll bars to view the data from any ang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324080" y="2592360"/>
            <a:ext cx="3581280" cy="312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5719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7A13-8780-42E7-8FFE-271491FE5204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ant impedance v changing parame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 far we have been viewing changes in Z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gainst changing paramete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ing the Constant Impedance vs Changing Parameters function we can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ot a third parameter against a fixed impedance. Choose W1 against a target impedance of 50 Ohms. Click Calculate – the results are shown below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257560" y="4114800"/>
            <a:ext cx="5324400" cy="21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1447920" y="2828880"/>
            <a:ext cx="4800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6591240" y="2676600"/>
            <a:ext cx="1762200" cy="12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3080-22D4-444A-AEB3-C448B0046213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ant impedance v changing parame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plot below illustrates how the Si8000 and Si9000 field solvers can provide powerful and rapid graphical analysis – in this case, the range of values of trace width for a constant impedance of 50 Ohms as a signal trace is offset within defined limits between the two reference plan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305000" y="2693880"/>
            <a:ext cx="7210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64C5-CCAA-4961-9A81-7DA52EFFAC59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+mj-ea"/>
              </a:rPr>
              <a:t>June 30 2009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etition ques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noticed on slide 7 that although H1 sweeps through 4 to 10 mil and H2 from 10 to 4 mil, the resulting impedance Z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egins at 46 Ohms but ends at 40.3 Ohms. Why does the impedance curve not appear symmetrica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: To achieve a more symmetrical curve we need to take into account both the thickness and the profile of the copper signal trace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e next slides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990720" y="2376360"/>
            <a:ext cx="75628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7E50-34CB-4052-A638-650AEBAA46F7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lution to compet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der calculation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tal dielectric height in this example = 4 + 10 = 14 mil; the copper signal trace is 1.2 mil thick – (T1 =1.2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en dielectric heights are equal (H1 = H2) the copper will not be centred between the reference planes but embedded into H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o for this first order calculation imagine a line drawn horizontally through the centre of the signal trace; then to a first order approximation the point of symmetry will occur when H1 + ½T1 = H2 – ½T1 = 7 mi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41911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2E0D-2E7C-463E-9BD5-0FDA1BED9FDD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lution to compet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 our example therefore we us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1 – ½T1 (4 – 0.6 = 3.4) as the Range Start Value and 9.4 as the Range Finish Value, Increment by 0.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2 + ½T1 (10 + 0.6 = 10.6) as the Start Value, Increment by –0.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resulting graph is shown below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20487"/>
          <a:stretch/>
        </p:blipFill>
        <p:spPr>
          <a:xfrm>
            <a:off x="2438280" y="2590920"/>
            <a:ext cx="441972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990720" y="4056120"/>
            <a:ext cx="77198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9FC1-78B1-40A7-B3EB-DE63946DD181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lution to compet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der calculation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signal trace is often not purely rectangular but trapezoidal (W1 &gt; W2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r this example, let’s assume a rectangular trace and make W1 = W2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So that we can goal seek on trace width for a 50 Ohm impedance, in the Si8000/Si9000 Configuration dialog we’ll set the Lower Trace Width Etch Factor Setting to 0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2438280" y="3240000"/>
            <a:ext cx="47055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AA2B-8883-49A5-8451-72C683169871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lution to compet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t Lower Trace Width Etch Factor Setting to 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w on the Lossless Calculation tab goal seek on Upper Trace Width for 50 Ohms…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3200400" cy="100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2438280" y="3776760"/>
            <a:ext cx="469584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AF9F-7632-4337-8AAE-E7A767F6F7ED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lution to compet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unning the Sensitivity Analysis calculation again…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ow begins and ends at 43.39 Ohm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553160" cy="2341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2448000" y="2095560"/>
            <a:ext cx="4686120" cy="18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AP8171" descr=""/>
          <p:cNvPicPr/>
          <p:nvPr/>
        </p:nvPicPr>
        <p:blipFill>
          <a:blip r:embed="rId1"/>
          <a:srcRect l="0" t="16399" r="0" b="1616"/>
          <a:stretch/>
        </p:blipFill>
        <p:spPr>
          <a:xfrm>
            <a:off x="990720" y="2286000"/>
            <a:ext cx="7785000" cy="4191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01B5-1FAE-4C9D-B468-F2EA1EB44C42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ansferring the solution to your own sta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  <a:ea typeface="SimSun"/>
              </a:rPr>
              <a:t>The solution may be easily transferred to Speedstack Stackup Builder where you can use it to build a working stack with available materials, adjusting automatically for inverted structures and copper embedding and finishing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734" t="832" r="1478" b="50140"/>
          <a:stretch/>
        </p:blipFill>
        <p:spPr>
          <a:xfrm>
            <a:off x="4870440" y="472428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2605320" cy="3433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172200" y="2362320"/>
            <a:ext cx="2514600" cy="1547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1066680" y="2362320"/>
            <a:ext cx="2606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58E8-CF0F-4E79-8B23-DBFCD090F3E5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nsitivity analysis in the Si8000m / Si9000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i8000m and Si9000e series incorporate the Sensitivity Analysis tab to allow designers to plot the effects of varying parameter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Picture 1028" descr=""/>
          <p:cNvPicPr/>
          <p:nvPr/>
        </p:nvPicPr>
        <p:blipFill>
          <a:blip r:embed="rId1"/>
          <a:stretch/>
        </p:blipFill>
        <p:spPr>
          <a:xfrm>
            <a:off x="1676520" y="1951200"/>
            <a:ext cx="632448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8C2A-CCB3-441B-AF38-4A5B4E26AE65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It is useful to understand how the structure parameters interact and within the Si8000m and Si9000e field solvers Sensitivity Analysis is a fast and visual technique to display that interaction. By graphing multiple calculations over user-specified parameter ranges Si8000m and Si9000e Sensitivity Analysis immediately reveals trends that are not easy to discover from a single resul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SimSun"/>
              </a:rPr>
              <a:t>For further information on the range of Polar field solvers visit the Polar web site www.polarinstruments.com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209680" y="1523520"/>
            <a:ext cx="556272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For more information: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Contact Polar now: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           Phon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USA / Canada / Mexico</a:t>
            </a:r>
            <a:br>
              <a:rPr sz="1400"/>
            </a:br>
            <a:r>
              <a:rPr b="0" lang="en-GB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  <a:hlinkClick r:id="rId1"/>
              </a:rPr>
              <a:t>Ken Taylor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( 503) 356 527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  <a:hlinkClick r:id="rId2"/>
              </a:rPr>
              <a:t>_x000b_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Asia / Pacific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Terence Chew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+65 6873 747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Japan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Terumitsu Tsuji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+81 45 339 015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UK / Europe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Neil Chamberlain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+44 23 9226 9113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Germany / Austria / Switzerland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Hermann Reischer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+43 7666 20041-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  <a:ea typeface="Arial"/>
              </a:rPr>
              <a:t>www.polarinstruments.com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E654-47B4-4620-930B-A7283763BB4B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80AD-2062-4BCA-A676-F6A38A263936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"/>
              </a:rPr>
              <a:t>Modeling varying parame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914400" y="1371600"/>
            <a:ext cx="7848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n this presentation we use the 3D graphing facility of the Si8000m and Si9000e Field Solvers to illustrate the effect on impedance of varying parameters within a controlled impedance struc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For this example we use the Si9000e to model the effect of simultaneously varying H1 and H2 of a two dielectric Offset Stripline structure 1B1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6" descr="C:\Polar\Si9000\Offset stripline1B1A.jpg"/>
          <p:cNvPicPr/>
          <p:nvPr/>
        </p:nvPicPr>
        <p:blipFill>
          <a:blip r:embed="rId1"/>
          <a:stretch/>
        </p:blipFill>
        <p:spPr>
          <a:xfrm>
            <a:off x="2643120" y="3276720"/>
            <a:ext cx="42912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35AA-8D3B-484F-8C0D-1541497F603F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"/>
              </a:rPr>
              <a:t>Modeling varying parame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rt the Si9000, click the Single-Ended Structures button and select the Offset Stripline 1B1A structur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he Lossless Calculation tab and define the structure with the settings shown abov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Calculate – the resulting impedance should be around 50 Ohm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924680" cy="22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A349-38AC-4847-B8F7-D52712014760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"/>
              </a:rPr>
              <a:t>Modeling varying parame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te from the previous screen that the values of H1 and H2 were initially both set at 7 m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’ll examine the effects on the impedance of the structure of increasing H1 from 4 to 10 mil while simultaneously decreasing H2 from 10 to 4 m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nsitivity Analys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ave all the settings in the Lossless Calculation screen at their current values. The sensitivity analysis functions will use these valu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switch to Sensitivity Analysis, click the Sensitivity Analysis tab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23692" t="0" r="0" b="0"/>
          <a:stretch/>
        </p:blipFill>
        <p:spPr>
          <a:xfrm>
            <a:off x="912960" y="4572000"/>
            <a:ext cx="7888320" cy="3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1EBC-8EF4-4CFC-A52D-7F3B76C13E15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"/>
              </a:rPr>
              <a:t>Modeling sensitivity analys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 the Sensitivity Analysis screen note the two sections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mpedance vs Changing Parameters – charts the change in impedance as a parameter (or parameters) change (in this example we will change H1 and H2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tant Impedance vs Changing Parameters – showing how the selected parameter must change to maintain a fixed impedan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" name="Picture 2052" descr=""/>
          <p:cNvPicPr/>
          <p:nvPr/>
        </p:nvPicPr>
        <p:blipFill>
          <a:blip r:embed="rId1"/>
          <a:stretch/>
        </p:blipFill>
        <p:spPr>
          <a:xfrm>
            <a:off x="1000080" y="2895480"/>
            <a:ext cx="7791480" cy="220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56C4-3587-4C8B-839A-11CAE23CD25D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"/>
              </a:rPr>
              <a:t>Modeling sensitivity analys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the Impedance vs Changing Parameters section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oose H1 as the first parameter and set its Range Start and Finish values to 4 and 10 mil respectively. Set the Increment value to 0.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oose H2 as the second parameter and its Range Start value to 1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t its increment value to – 0.5 (i.e. to decrement as H1 is increasi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om the Graph Settings set the Target Impedance to 50 Oh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Calculate – you should see the graph belo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75628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0342-5F21-4E6E-AC96-4A0E1D9E13EF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Unicode MS"/>
                <a:ea typeface="Arial"/>
              </a:rPr>
              <a:t>Modeling sensitivity analys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2D chart plots the change in Z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s H1 changes – we can view the data behind the chart by clicking the Results tab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252520" y="2209680"/>
            <a:ext cx="5324760" cy="21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Rectangle 7"/>
          <p:cNvSpPr/>
          <p:nvPr/>
        </p:nvSpPr>
        <p:spPr>
          <a:xfrm>
            <a:off x="990720" y="4648320"/>
            <a:ext cx="7848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ensitivity analysis function allows charting in 3 dimensions so we can plot the change in Z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gainst the changes in both H1 and H2. With the Results tab selected it is possible to export this data to the the clipboard using the Edit|Copy Current Results tab to Clipboard option.  Pasting the data into other tools (such as Excel) will facilitate further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29"/>
          <p:cNvSpPr/>
          <p:nvPr/>
        </p:nvSpPr>
        <p:spPr>
          <a:xfrm>
            <a:off x="3124080" y="6477120"/>
            <a:ext cx="33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© Polar Instruments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30"/>
          <p:cNvSpPr/>
          <p:nvPr/>
        </p:nvSpPr>
        <p:spPr>
          <a:xfrm>
            <a:off x="8244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E30C-CA04-480A-A427-2D70DF84A5AD}" type="slidenum">
              <a:rPr b="1" lang="en-US" sz="1800" spc="-1" strike="noStrike">
                <a:solidFill>
                  <a:srgbClr val="3135bd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ing 3D graph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view the results graphically change the Graph Settings to 3D (leave the Target Impedance at 50 Ohms.) To improve clarity we change the H Increment to 0.1 and recalculat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239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2:54:39Z</dcterms:created>
  <dc:creator>Ralph Bryce</dc:creator>
  <dc:description/>
  <dc:language>en-US</dc:language>
  <cp:lastModifiedBy>Ralph Bryce</cp:lastModifiedBy>
  <dcterms:modified xsi:type="dcterms:W3CDTF">2009-07-02T11:24:15Z</dcterms:modified>
  <cp:revision>49</cp:revision>
  <dc:subject/>
  <dc:title>AP8171 Si8000 &amp; Si9000 Sensitivity Analysis</dc:title>
</cp:coreProperties>
</file>