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03E-225A-4525-9789-00DDD3B5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345-E918-4A87-96BE-D3B1780A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B79-F8D4-4926-8153-7DACA645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66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47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66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47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5D9-8EBD-44BD-9084-CE889EE9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5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B10-8876-4B4E-9E54-863CDA5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566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447800" y="198108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566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447800" y="4130640"/>
            <a:ext cx="179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D3A-F45C-484F-8603-8AC72185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F65-5BDC-43E4-BE03-03F6621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331-90F3-483A-814B-737ACF45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55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496-0B11-4C47-AC84-4745A605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7C1-DB38-45F9-813D-5499181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36280" y="413064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09F-3926-4938-8D34-CEF5D0F0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36280" y="1981080"/>
            <a:ext cx="2714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5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940-E303-49F1-8780-29112FA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720" y="647676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656-34A5-4902-AF88-9244628235B4}" type="datetime"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07/30/26</a:t>
            </a:fld>
            <a:r>
              <a:rPr b="0" lang="en-GB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>
                <a:solidFill>
                  <a:srgbClr val="3135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3E9-128F-4B93-A89A-2E4FE9FC5C31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53352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32"/>
          <p:cNvSpPr/>
          <p:nvPr/>
        </p:nvSpPr>
        <p:spPr>
          <a:xfrm>
            <a:off x="678168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33" descr="C:\Manuals\polarinstrument.jpg"/>
          <p:cNvPicPr/>
          <p:nvPr/>
        </p:nvPicPr>
        <p:blipFill>
          <a:blip r:embed="rId3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0" descr="C:\Polar\Si9000\Polar_Logo_CDR.jpg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5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1" descr="\\Server\marketing\Polar Website Shadow\images\strip.gif"/>
          <p:cNvPicPr/>
          <p:nvPr/>
        </p:nvPicPr>
        <p:blipFill>
          <a:blip r:embed="rId3"/>
          <a:stretch/>
        </p:blipFill>
        <p:spPr>
          <a:xfrm>
            <a:off x="182880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4" descr="C:\Polar\Si9000\Impedance Calc.jpg"/>
          <p:cNvPicPr/>
          <p:nvPr/>
        </p:nvPicPr>
        <p:blipFill>
          <a:blip r:embed="rId4"/>
          <a:stretch/>
        </p:blipFill>
        <p:spPr>
          <a:xfrm>
            <a:off x="76320" y="990720"/>
            <a:ext cx="1676160" cy="103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5" descr="C:\Manuals\polarinstrument.jpg"/>
          <p:cNvPicPr/>
          <p:nvPr/>
        </p:nvPicPr>
        <p:blipFill>
          <a:blip r:embed="rId5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38" descr=""/>
          <p:cNvPicPr/>
          <p:nvPr/>
        </p:nvPicPr>
        <p:blipFill>
          <a:blip r:embed="rId6"/>
          <a:srcRect l="0" t="0" r="0" b="62164"/>
          <a:stretch/>
        </p:blipFill>
        <p:spPr>
          <a:xfrm>
            <a:off x="76320" y="3130560"/>
            <a:ext cx="166356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9" descr=""/>
          <p:cNvPicPr/>
          <p:nvPr/>
        </p:nvPicPr>
        <p:blipFill>
          <a:blip r:embed="rId7"/>
          <a:stretch/>
        </p:blipFill>
        <p:spPr>
          <a:xfrm>
            <a:off x="76320" y="4311720"/>
            <a:ext cx="16603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2" descr="C:\Polar\Si9000\P3 S-11 magnitude.jpg"/>
          <p:cNvPicPr/>
          <p:nvPr/>
        </p:nvPicPr>
        <p:blipFill>
          <a:blip r:embed="rId8"/>
          <a:stretch/>
        </p:blipFill>
        <p:spPr>
          <a:xfrm>
            <a:off x="76320" y="2101680"/>
            <a:ext cx="1690560" cy="96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5" descr="C:\Polar\Si9000\P3-1 Coated Microstrip 1B.jpg"/>
          <p:cNvPicPr/>
          <p:nvPr/>
        </p:nvPicPr>
        <p:blipFill>
          <a:blip r:embed="rId9"/>
          <a:stretch/>
        </p:blipFill>
        <p:spPr>
          <a:xfrm>
            <a:off x="21081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6" descr="C:\Polar\Si9000\P3-2 Edge-Coupled Offset Stripline 1B 1A 1R.jpg"/>
          <p:cNvPicPr/>
          <p:nvPr/>
        </p:nvPicPr>
        <p:blipFill>
          <a:blip r:embed="rId10"/>
          <a:stretch/>
        </p:blipFill>
        <p:spPr>
          <a:xfrm>
            <a:off x="30988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7" descr="C:\Polar\Si9000\P3-3 Surface Coplanar Strips with Ground 2B.jpg"/>
          <p:cNvPicPr/>
          <p:nvPr/>
        </p:nvPicPr>
        <p:blipFill>
          <a:blip r:embed="rId11"/>
          <a:stretch/>
        </p:blipFill>
        <p:spPr>
          <a:xfrm>
            <a:off x="408924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48" descr="C:\Polar\Si9000\P3-4 Coated Coplanar Strips 2B.jpg"/>
          <p:cNvPicPr/>
          <p:nvPr/>
        </p:nvPicPr>
        <p:blipFill>
          <a:blip r:embed="rId12"/>
          <a:stretch/>
        </p:blipFill>
        <p:spPr>
          <a:xfrm>
            <a:off x="50799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49" descr="C:\Polar\Si9000\P3-5 Diff Coated Coplanar Waveguide 2B.jpg"/>
          <p:cNvPicPr/>
          <p:nvPr/>
        </p:nvPicPr>
        <p:blipFill>
          <a:blip r:embed="rId13"/>
          <a:stretch/>
        </p:blipFill>
        <p:spPr>
          <a:xfrm>
            <a:off x="60706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50" descr="C:\Polar\Si9000\p6-3 Dual Coated Microstrip 1B.jpg"/>
          <p:cNvPicPr/>
          <p:nvPr/>
        </p:nvPicPr>
        <p:blipFill>
          <a:blip r:embed="rId14"/>
          <a:stretch/>
        </p:blipFill>
        <p:spPr>
          <a:xfrm>
            <a:off x="706104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1" descr="C:\Polar\Si9000\P6-5 Edge-Coupled Offset Microstrip 2B 1A 1R.jpg"/>
          <p:cNvPicPr/>
          <p:nvPr/>
        </p:nvPicPr>
        <p:blipFill>
          <a:blip r:embed="rId15"/>
          <a:stretch/>
        </p:blipFill>
        <p:spPr>
          <a:xfrm>
            <a:off x="805176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52" descr="C:\Polar\Speedstack training\Presentations\CouponGen.jpg"/>
          <p:cNvPicPr/>
          <p:nvPr/>
        </p:nvPicPr>
        <p:blipFill>
          <a:blip r:embed="rId16"/>
          <a:stretch/>
        </p:blipFill>
        <p:spPr>
          <a:xfrm>
            <a:off x="76320" y="5562720"/>
            <a:ext cx="1676160" cy="1076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larinstruments.com/support/stackup/AP507.html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ken.taylor@polarinstruments.com" TargetMode="External"/><Relationship Id="rId2" Type="http://schemas.openxmlformats.org/officeDocument/2006/relationships/hyperlink" Target="mailto:ken.taylor@polarinstruments.com?CC=gwen.merchant@polarinstruments.com&amp;SUBJECT=%20Please%20call%20me&amp;BODY=Dear%20Ken,%20%20Please%20call%20me%20to%20discuss%20my%20requirements.%20%20My%20phone%20number%20is..." TargetMode="External"/><Relationship Id="rId3" Type="http://schemas.openxmlformats.org/officeDocument/2006/relationships/hyperlink" Target="mailto:terence.chew@polarinstruments.com" TargetMode="External"/><Relationship Id="rId4" Type="http://schemas.openxmlformats.org/officeDocument/2006/relationships/hyperlink" Target="mailto:tetsuya.koizumi@gardien.com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14720" y="2666880"/>
            <a:ext cx="692928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Base thickness and isolation dimension definitions in Speedstac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230560" y="47163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Polar Instruments Application Note AP50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(read in conjunction with </a:t>
            </a: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1"/>
              </a:rPr>
              <a:t>AP507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175A-89FD-4149-BC32-5C73E03E3B8C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042920" y="2390760"/>
            <a:ext cx="4496040" cy="144792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42920" y="3929040"/>
            <a:ext cx="5545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1966"/>
                </a:solidFill>
                <a:latin typeface="Arial"/>
                <a:ea typeface="Arial"/>
              </a:rPr>
              <a:t>Base thickness, T</a:t>
            </a:r>
            <a:r>
              <a:rPr b="0" lang="en-US" sz="1600" spc="-1" strike="noStrike" baseline="-25000">
                <a:solidFill>
                  <a:srgbClr val="191966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191966"/>
                </a:solidFill>
                <a:latin typeface="Arial"/>
                <a:ea typeface="Arial"/>
              </a:rPr>
              <a:t>, is the thickness of the material on the shelf in the warehou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1966"/>
                </a:solidFill>
                <a:latin typeface="Arial"/>
                <a:ea typeface="Arial"/>
              </a:rPr>
              <a:t>Base thickness is helpful information for the PCB fabricator as a component parameter in the determination of pre-press stack thickness which, in turn, determines how many stacks can be loaded into the pr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66680" y="457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66"/>
                </a:solidFill>
                <a:latin typeface="Arial"/>
                <a:ea typeface="Arial"/>
              </a:rPr>
              <a:t>Base 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689200" y="2924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66"/>
                </a:solidFill>
                <a:latin typeface="Arial"/>
                <a:ea typeface="Arial"/>
              </a:rPr>
              <a:t>Prep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5541840" y="2387160"/>
            <a:ext cx="104004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5538960" y="3833640"/>
            <a:ext cx="1033200" cy="5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6539040" y="2389320"/>
            <a:ext cx="75960" cy="380880"/>
          </a:xfrm>
          <a:prstGeom prst="upArrow">
            <a:avLst>
              <a:gd name="adj1" fmla="val 50000"/>
              <a:gd name="adj2" fmla="val 1253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539040" y="344952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396120" y="284148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191966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3269-A935-4DD8-B254-BE10ABD74E2B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Finished Thickn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789280" y="2924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Prep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36800" y="1704960"/>
            <a:ext cx="4495680" cy="53352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036800" y="2543040"/>
            <a:ext cx="4495680" cy="114300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036800" y="3990960"/>
            <a:ext cx="4495680" cy="53352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789280" y="2924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Prep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036800" y="2238480"/>
            <a:ext cx="449568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036800" y="3686040"/>
            <a:ext cx="449568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789280" y="1781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789280" y="40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332080" y="2238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100% C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2332080" y="36860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100% C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1042920" y="4786200"/>
            <a:ext cx="60436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he Finished Thickness, T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f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, of the prepreg is its thickness after it has been pressed between two 100% solid copper sheets. Note the reduction in thickness from the base thickness, T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. That means 100% solid; no antipads, no slots, no relief at all, all copp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his dimension is important as we use it in the next step to determine the post–press dimensions of the board and of the impedance struct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1"/>
          <p:cNvSpPr/>
          <p:nvPr/>
        </p:nvSpPr>
        <p:spPr>
          <a:xfrm flipV="1">
            <a:off x="5530680" y="2389320"/>
            <a:ext cx="10432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 flipV="1">
            <a:off x="5529240" y="3833640"/>
            <a:ext cx="1047600" cy="5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5537160" y="368604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4"/>
          <p:cNvSpPr/>
          <p:nvPr/>
        </p:nvSpPr>
        <p:spPr>
          <a:xfrm flipV="1">
            <a:off x="5532480" y="2538000"/>
            <a:ext cx="65412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6537240" y="344160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6539040" y="2395440"/>
            <a:ext cx="75960" cy="381240"/>
          </a:xfrm>
          <a:prstGeom prst="upArrow">
            <a:avLst>
              <a:gd name="adj1" fmla="val 50000"/>
              <a:gd name="adj2" fmla="val 12547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6396120" y="2841480"/>
            <a:ext cx="54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8"/>
          <p:cNvSpPr/>
          <p:nvPr/>
        </p:nvSpPr>
        <p:spPr>
          <a:xfrm>
            <a:off x="6134040" y="328608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6143760" y="2548080"/>
            <a:ext cx="75960" cy="380880"/>
          </a:xfrm>
          <a:prstGeom prst="upArrow">
            <a:avLst>
              <a:gd name="adj1" fmla="val 50000"/>
              <a:gd name="adj2" fmla="val 1253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5996160" y="2841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BAC3-E10C-44C3-BFCE-516D87CCD261}" type="slidenum">
              <a:rPr b="1" lang="en-GB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1042920" y="2236680"/>
            <a:ext cx="4496040" cy="304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1042920" y="3684600"/>
            <a:ext cx="4496040" cy="76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Finished Dimen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795760" y="2922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Prep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042920" y="1779480"/>
            <a:ext cx="4496040" cy="53352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042920" y="2541600"/>
            <a:ext cx="4496040" cy="114300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042920" y="3760920"/>
            <a:ext cx="4496040" cy="533160"/>
          </a:xfrm>
          <a:prstGeom prst="rect">
            <a:avLst/>
          </a:prstGeom>
          <a:solidFill>
            <a:srgbClr val="92d05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795760" y="2922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Prep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119240" y="3456000"/>
            <a:ext cx="5335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795760" y="1855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95760" y="3946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5800" y="4851360"/>
            <a:ext cx="84582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he post-press dimensions are computed from the finished thickness and from the amount of copper on each layer. The basis of the calculation is that an X% copper layer is pressed into the prepreg by an amount = (100 – X)% of the copper thickness. Thus, for example, a 20% copper (signal) layer 2 mils (2 thousandths of an inch) thick will be pressed into the prepreg (100 – 20)% of the copper thickness. That is, the copper is pressed into the prepreg by 80% of 2 mils = 1.6 mils. The 0.4 mil void will be filled by squeezed out resin. The distance between the opposing copper faces is the Isolation Distance, T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567400" y="238932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5535720" y="383688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535720" y="368784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43640" y="25416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6539040" y="345600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6539040" y="2389320"/>
            <a:ext cx="75960" cy="380880"/>
          </a:xfrm>
          <a:prstGeom prst="upArrow">
            <a:avLst>
              <a:gd name="adj1" fmla="val 50000"/>
              <a:gd name="adj2" fmla="val 1253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386400" y="284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6138720" y="32986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6138720" y="2536920"/>
            <a:ext cx="76320" cy="380880"/>
          </a:xfrm>
          <a:prstGeom prst="upArrow">
            <a:avLst>
              <a:gd name="adj1" fmla="val 50000"/>
              <a:gd name="adj2" fmla="val 124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000840" y="2836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2948040" y="3456000"/>
            <a:ext cx="5335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4776840" y="3456000"/>
            <a:ext cx="5335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1119240" y="2313000"/>
            <a:ext cx="182880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5540400" y="26179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 flipV="1">
            <a:off x="5540400" y="3450960"/>
            <a:ext cx="19836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5"/>
          <p:cNvSpPr/>
          <p:nvPr/>
        </p:nvSpPr>
        <p:spPr>
          <a:xfrm flipH="1" flipV="1">
            <a:off x="3281400" y="3589200"/>
            <a:ext cx="28584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 flipV="1">
            <a:off x="3567240" y="3606480"/>
            <a:ext cx="1514520" cy="9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7"/>
          <p:cNvSpPr/>
          <p:nvPr/>
        </p:nvSpPr>
        <p:spPr>
          <a:xfrm flipH="1" flipV="1">
            <a:off x="1423800" y="3606480"/>
            <a:ext cx="2143080" cy="9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2066760" y="4518000"/>
            <a:ext cx="266724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20% copper pressed in 80% of its thick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1"/>
          <p:cNvSpPr/>
          <p:nvPr/>
        </p:nvSpPr>
        <p:spPr>
          <a:xfrm>
            <a:off x="5710320" y="2617920"/>
            <a:ext cx="75960" cy="228600"/>
          </a:xfrm>
          <a:prstGeom prst="upArrow">
            <a:avLst>
              <a:gd name="adj1" fmla="val 50000"/>
              <a:gd name="adj2" fmla="val 752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2"/>
          <p:cNvSpPr/>
          <p:nvPr/>
        </p:nvSpPr>
        <p:spPr>
          <a:xfrm>
            <a:off x="5710320" y="322740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5562720" y="2841480"/>
            <a:ext cx="64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1041480" y="1303200"/>
            <a:ext cx="180504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Resin squeeze-out fills vo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48"/>
          <p:cNvSpPr/>
          <p:nvPr/>
        </p:nvSpPr>
        <p:spPr>
          <a:xfrm>
            <a:off x="1781280" y="1541520"/>
            <a:ext cx="25236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0"/>
          <p:cNvSpPr/>
          <p:nvPr/>
        </p:nvSpPr>
        <p:spPr>
          <a:xfrm>
            <a:off x="3633840" y="2313000"/>
            <a:ext cx="182880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2948040" y="1303200"/>
            <a:ext cx="2666880" cy="2462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90% copper pressed in 10% of its thick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52"/>
          <p:cNvSpPr/>
          <p:nvPr/>
        </p:nvSpPr>
        <p:spPr>
          <a:xfrm flipH="1">
            <a:off x="2281320" y="1541520"/>
            <a:ext cx="1357200" cy="83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3"/>
          <p:cNvSpPr/>
          <p:nvPr/>
        </p:nvSpPr>
        <p:spPr>
          <a:xfrm>
            <a:off x="3638520" y="1541520"/>
            <a:ext cx="757440" cy="8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4"/>
          <p:cNvSpPr/>
          <p:nvPr/>
        </p:nvSpPr>
        <p:spPr>
          <a:xfrm>
            <a:off x="3710160" y="345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5"/>
          <p:cNvSpPr/>
          <p:nvPr/>
        </p:nvSpPr>
        <p:spPr>
          <a:xfrm>
            <a:off x="2185920" y="345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6"/>
          <p:cNvSpPr/>
          <p:nvPr/>
        </p:nvSpPr>
        <p:spPr>
          <a:xfrm>
            <a:off x="4167360" y="3760920"/>
            <a:ext cx="75960" cy="228600"/>
          </a:xfrm>
          <a:prstGeom prst="upArrow">
            <a:avLst>
              <a:gd name="adj1" fmla="val 50000"/>
              <a:gd name="adj2" fmla="val 752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7"/>
          <p:cNvSpPr/>
          <p:nvPr/>
        </p:nvSpPr>
        <p:spPr>
          <a:xfrm>
            <a:off x="4167360" y="322740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8"/>
          <p:cNvSpPr/>
          <p:nvPr/>
        </p:nvSpPr>
        <p:spPr>
          <a:xfrm>
            <a:off x="3862440" y="345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2 mils 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9"/>
          <p:cNvSpPr/>
          <p:nvPr/>
        </p:nvSpPr>
        <p:spPr>
          <a:xfrm>
            <a:off x="2490840" y="32274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0"/>
          <p:cNvSpPr/>
          <p:nvPr/>
        </p:nvSpPr>
        <p:spPr>
          <a:xfrm>
            <a:off x="2490840" y="3684600"/>
            <a:ext cx="76320" cy="228600"/>
          </a:xfrm>
          <a:prstGeom prst="up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1"/>
          <p:cNvSpPr/>
          <p:nvPr/>
        </p:nvSpPr>
        <p:spPr>
          <a:xfrm>
            <a:off x="2185920" y="3456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1.6 m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3"/>
          <p:cNvSpPr/>
          <p:nvPr/>
        </p:nvSpPr>
        <p:spPr>
          <a:xfrm>
            <a:off x="6858000" y="2286000"/>
            <a:ext cx="221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Speedstack computes these post-press dimensions when finishing is applied in accordance with the thickness correction selected in the Tools/Edit Thickness option. They are then used in the  impedance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8"/>
          <p:cNvSpPr/>
          <p:nvPr/>
        </p:nvSpPr>
        <p:spPr>
          <a:xfrm>
            <a:off x="1781280" y="1541520"/>
            <a:ext cx="14176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209680" y="1523520"/>
            <a:ext cx="556272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For more information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Contact Polar now: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          Phon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USA / Canada / Mexico</a:t>
            </a:r>
            <a:br>
              <a:rPr sz="1400"/>
            </a:b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1"/>
              </a:rPr>
              <a:t>Ken Taylor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( 503) 356 527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2"/>
              </a:rPr>
              <a:t>_x000b_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Asia / Pacifi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3"/>
              </a:rPr>
              <a:t>Terence Chew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65 6873 747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Jap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4"/>
              </a:rPr>
              <a:t>Tetsuya Koizumi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81 3 3904 62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UK / Europe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Neil Chamberlain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44 23 9226 9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Germany / Austria / Switzerland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Hermann Reischer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43 7666 20041-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www.polarinstruments.com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9:09:35Z</dcterms:created>
  <dc:creator>Ralph Bryce</dc:creator>
  <dc:description/>
  <dc:language>en-US</dc:language>
  <cp:lastModifiedBy>Ralph Bryce</cp:lastModifiedBy>
  <dcterms:modified xsi:type="dcterms:W3CDTF">2015-09-17T13:02:51Z</dcterms:modified>
  <cp:revision>36</cp:revision>
  <dc:subject/>
  <dc:title>base thickness</dc:title>
</cp:coreProperties>
</file>