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6553080" y="0"/>
            <a:ext cx="15264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6781680" y="6477120"/>
            <a:ext cx="22003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\\Server\marketing\Polar Website Shadow\images\strip.gif"/>
          <p:cNvPicPr/>
          <p:nvPr/>
        </p:nvPicPr>
        <p:blipFill>
          <a:blip r:embed="rId2"/>
          <a:stretch/>
        </p:blipFill>
        <p:spPr>
          <a:xfrm>
            <a:off x="2286000" y="0"/>
            <a:ext cx="152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20520" y="6148440"/>
            <a:ext cx="2200320" cy="26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36360" y="5416560"/>
            <a:ext cx="2168640" cy="124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"/>
          <p:cNvPicPr/>
          <p:nvPr/>
        </p:nvPicPr>
        <p:blipFill>
          <a:blip r:embed="rId5"/>
          <a:stretch/>
        </p:blipFill>
        <p:spPr>
          <a:xfrm>
            <a:off x="76320" y="1752480"/>
            <a:ext cx="2152440" cy="357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387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ken.taylor@polarinstruments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920" y="213948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66"/>
                </a:solidFill>
                <a:latin typeface="Times New Roman"/>
              </a:rPr>
              <a:t>Speedstack</a:t>
            </a:r>
            <a:br>
              <a:rPr sz="5400"/>
            </a:b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 PCB Stackup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90920" y="388584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Times New Roman"/>
              </a:rPr>
              <a:t>Symmetrical Build slashes stackup creation time in ha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Iden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81680" y="2590560"/>
            <a:ext cx="2224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 layers (not part of electrical symmetry) are applied separately to each side of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914400" y="1828800"/>
            <a:ext cx="2217600" cy="990720"/>
          </a:xfrm>
          <a:prstGeom prst="wedgeEllipseCallout">
            <a:avLst>
              <a:gd name="adj1" fmla="val 83773"/>
              <a:gd name="adj2" fmla="val 82851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dent layers are added manually to each si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6324840" cy="3821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gning ground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81680" y="2438280"/>
            <a:ext cx="2237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all the material in place we assign ground planes… we begin with layer L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t’s reflected in layer L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905120" y="1905120"/>
            <a:ext cx="2054160" cy="990360"/>
          </a:xfrm>
          <a:prstGeom prst="wedgeEllipseCallout">
            <a:avLst>
              <a:gd name="adj1" fmla="val 56953"/>
              <a:gd name="adj2" fmla="val 140865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w we assign layer L2 as ground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95640" y="1905120"/>
            <a:ext cx="2521080" cy="987480"/>
          </a:xfrm>
          <a:prstGeom prst="wedgeEllipseCallout">
            <a:avLst>
              <a:gd name="adj1" fmla="val -44087"/>
              <a:gd name="adj2" fmla="val 32990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peedstack mirrors the ground plane in L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2"/>
          <a:stretch/>
        </p:blipFill>
        <p:spPr>
          <a:xfrm>
            <a:off x="4541760" y="3424320"/>
            <a:ext cx="5868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12193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2280" y="2735280"/>
            <a:ext cx="6400800" cy="3970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igning more ground plan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7640" y="2361960"/>
            <a:ext cx="2133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repeat the process for the other ground plane lay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1905120"/>
            <a:ext cx="2361960" cy="990360"/>
          </a:xfrm>
          <a:prstGeom prst="wedgeEllipseCallout">
            <a:avLst>
              <a:gd name="adj1" fmla="val 83263"/>
              <a:gd name="adj2" fmla="val 23076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e assign layer L4 as ground plan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995640" y="1905120"/>
            <a:ext cx="2478240" cy="987480"/>
          </a:xfrm>
          <a:prstGeom prst="wedgeEllipseCallout">
            <a:avLst>
              <a:gd name="adj1" fmla="val -48185"/>
              <a:gd name="adj2" fmla="val 24968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 Speedstack matches it with  layer 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819520" y="1523880"/>
            <a:ext cx="5867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For more information and assistance with upda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Contact Polar n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Phone: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USA / Canada / Mexico</a:t>
            </a:r>
            <a:br>
              <a:rPr sz="18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"/>
              </a:rPr>
              <a:t>Ken Taylor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( 503) 356 5270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Asia / Pacific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Amit Bhardwaj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+65 6873 7470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UK / Europe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Neil Chamberlain 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Arial"/>
              </a:rPr>
              <a:t>+44 23 9226 911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www.polarinstruments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0" y="1814400"/>
            <a:ext cx="214164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is session we  build an 8-layer stack – we begin with 3 cores and then illustrate how to use symmetrical bui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reate a new empty stackup and add three cor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52280" y="4038480"/>
            <a:ext cx="6172200" cy="1914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228600" y="6094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Speedstack Symmetrical Build to achieve dramatic reductions in stackup buil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to 2-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81680" y="1981080"/>
            <a:ext cx="2286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ick the 2-D button to switch to 2-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C:\Manuals\SB200-Si8000\Symmetrical Build\Symm Build-2 2d button.jpg"/>
          <p:cNvPicPr/>
          <p:nvPr/>
        </p:nvPicPr>
        <p:blipFill>
          <a:blip r:embed="rId1"/>
          <a:stretch/>
        </p:blipFill>
        <p:spPr>
          <a:xfrm>
            <a:off x="685800" y="1981080"/>
            <a:ext cx="838080" cy="6732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1752480" y="2819520"/>
            <a:ext cx="1984320" cy="685800"/>
          </a:xfrm>
          <a:prstGeom prst="wedgeEllipseCallout">
            <a:avLst>
              <a:gd name="adj1" fmla="val -95759"/>
              <a:gd name="adj2" fmla="val -12847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-D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304920" y="4719600"/>
            <a:ext cx="61722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320" y="4419720"/>
            <a:ext cx="6338880" cy="1531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105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layers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81680" y="9907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chieve the required dimensions we need to add some prepreg layers between c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’ll work in the top half of the stack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peedstack  Symmetrical Mode will add layers to the lower half of the stackup to maintain stack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’ll begin by selecting lay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809880" y="2897280"/>
            <a:ext cx="1981440" cy="758880"/>
          </a:xfrm>
          <a:prstGeom prst="wedgeEllipseCallout">
            <a:avLst>
              <a:gd name="adj1" fmla="val -53046"/>
              <a:gd name="adj2" fmla="val 23828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lect Lay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1454040" cy="712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2362320" y="1755720"/>
            <a:ext cx="2514600" cy="758880"/>
          </a:xfrm>
          <a:prstGeom prst="wedgeEllipseCallout">
            <a:avLst>
              <a:gd name="adj1" fmla="val -116351"/>
              <a:gd name="adj2" fmla="val -2406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witch to Symmetrical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6172200" cy="1889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ing prepreg laye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81320" y="1981080"/>
            <a:ext cx="22100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 we add a layer of prepreg abov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repreg layer is reflected in the structure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28600" y="3733920"/>
            <a:ext cx="1901880" cy="987480"/>
          </a:xfrm>
          <a:prstGeom prst="wedgeEllipseCallout">
            <a:avLst>
              <a:gd name="adj1" fmla="val 112185"/>
              <a:gd name="adj2" fmla="val 12395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re’s the layer we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4427640" y="3733920"/>
            <a:ext cx="2046240" cy="987480"/>
          </a:xfrm>
          <a:prstGeom prst="wedgeEllipseCallout">
            <a:avLst>
              <a:gd name="adj1" fmla="val -41069"/>
              <a:gd name="adj2" fmla="val 182958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here’s the layer added by Speed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228600" y="2147760"/>
            <a:ext cx="62485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28600" y="3998880"/>
            <a:ext cx="6248520" cy="2398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a second layer of prepre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0" y="1828800"/>
            <a:ext cx="2209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w we add another layer of prepreg… Speedstack adds another layer below to maintain sym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80880" y="2743200"/>
            <a:ext cx="1901880" cy="987480"/>
          </a:xfrm>
          <a:prstGeom prst="wedgeEllipseCallout">
            <a:avLst>
              <a:gd name="adj1" fmla="val 106259"/>
              <a:gd name="adj2" fmla="val 151449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re’s the new layer we add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4191120" y="2819520"/>
            <a:ext cx="2286000" cy="987480"/>
          </a:xfrm>
          <a:prstGeom prst="wedgeEllipseCallout">
            <a:avLst>
              <a:gd name="adj1" fmla="val -28449"/>
              <a:gd name="adj2" fmla="val 24614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here’s the new layer added by Speed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28600" y="3781440"/>
            <a:ext cx="6248520" cy="2792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76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a prepreg layer to the top of the sta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81320" y="2666520"/>
            <a:ext cx="2210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xt we add a layer of prepreg above L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peedstack adds the corresponding layer below L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04920" y="2590920"/>
            <a:ext cx="2054160" cy="987480"/>
          </a:xfrm>
          <a:prstGeom prst="wedgeEllipseCallout">
            <a:avLst>
              <a:gd name="adj1" fmla="val 99847"/>
              <a:gd name="adj2" fmla="val 97106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 another prepreg layer above L1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924360" y="2590920"/>
            <a:ext cx="2476440" cy="1066680"/>
          </a:xfrm>
          <a:prstGeom prst="wedgeEllipseCallout">
            <a:avLst>
              <a:gd name="adj1" fmla="val -36944"/>
              <a:gd name="adj2" fmla="val 29851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is layer is added to maintain 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3160" y="3606840"/>
            <a:ext cx="6303960" cy="3174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a foil lay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81680" y="2590560"/>
            <a:ext cx="2224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xt, we add a foil layer…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which is mirrored below. (As part of the process we invert layer L8)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04920" y="2438280"/>
            <a:ext cx="1904760" cy="987480"/>
          </a:xfrm>
          <a:prstGeom prst="wedgeEllipseCallout">
            <a:avLst>
              <a:gd name="adj1" fmla="val 101750"/>
              <a:gd name="adj2" fmla="val 95500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re’s the new foil layer we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3635280" y="2438280"/>
            <a:ext cx="2689200" cy="1143000"/>
          </a:xfrm>
          <a:prstGeom prst="wedgeEllipseCallout">
            <a:avLst>
              <a:gd name="adj1" fmla="val -26407"/>
              <a:gd name="adj2" fmla="val 30333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Speedstack maintains symmetry with this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280" y="3267000"/>
            <a:ext cx="6324840" cy="3514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ing a layer of soldermas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7640" y="2590560"/>
            <a:ext cx="2133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in a single step we add a layer of LPI solder mask to both sides of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533520" y="1905120"/>
            <a:ext cx="2022480" cy="990360"/>
          </a:xfrm>
          <a:prstGeom prst="wedgeEllipseCallout">
            <a:avLst>
              <a:gd name="adj1" fmla="val 123958"/>
              <a:gd name="adj2" fmla="val 11009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ere’s the LPI solder mask we add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419720" y="1981080"/>
            <a:ext cx="1981080" cy="990720"/>
          </a:xfrm>
          <a:prstGeom prst="wedgeEllipseCallout">
            <a:avLst>
              <a:gd name="adj1" fmla="val -46236"/>
              <a:gd name="adj2" fmla="val 407212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d the LPI layer added by Speed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0:01:57Z</dcterms:created>
  <dc:creator>Ralph Bryce</dc:creator>
  <dc:description/>
  <dc:language>en-US</dc:language>
  <cp:lastModifiedBy>Polar</cp:lastModifiedBy>
  <dcterms:modified xsi:type="dcterms:W3CDTF">2018-02-08T11:55:58Z</dcterms:modified>
  <cp:revision>22</cp:revision>
  <dc:subject/>
  <dc:title>PowerPoint Presentation</dc:title>
</cp:coreProperties>
</file>